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71796"/>
        <c:axId val="34593333"/>
      </c:barChart>
      <c:catAx>
        <c:axId val="88671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93333"/>
        <c:crosses val="autoZero"/>
        <c:auto val="1"/>
        <c:lblAlgn val="ctr"/>
        <c:lblOffset val="100"/>
        <c:noMultiLvlLbl val="0"/>
      </c:catAx>
      <c:valAx>
        <c:axId val="34593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71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A34-3B9A-4460-8BDE-2F5B8DAE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C6A-EC95-4680-BB4B-033CAA4F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DA9-21A9-4D66-88C8-3F7A230D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8418-D0E3-4D94-8559-5614DAC8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760-EB8C-45C1-B0AD-E8BB8412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7DD-79DF-4785-AB38-F325888C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E7C-5EA4-48B2-9599-6F2EC83C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009-03BB-42E3-8A6E-5660AB56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9D8-D50C-481A-9C3A-0EA4225E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2A9-4213-4EB0-913C-AC656482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D77-841C-4122-93E9-36D3DCEE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81D-3625-4F88-BAC2-6B2A7C2D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39ED6-E21D-493A-83CC-37C8CA0A9B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