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04076"/>
        <c:axId val="46892548"/>
      </c:barChart>
      <c:catAx>
        <c:axId val="97304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92548"/>
        <c:crosses val="autoZero"/>
        <c:auto val="1"/>
        <c:lblAlgn val="ctr"/>
        <c:lblOffset val="100"/>
        <c:noMultiLvlLbl val="0"/>
      </c:catAx>
      <c:valAx>
        <c:axId val="46892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04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1E60-7470-4411-B38A-33E132CC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66E-4173-4076-AD13-295908F6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81C-254F-4619-9E22-2DB0DE9C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C1B-1D58-4F16-BA13-48A5E2AC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52A2-AAE9-4830-A29E-5DBF74F9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581-3CC0-4ECF-8FFA-08CC9FAE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FBE-ECBA-4516-8D23-54FFA653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16A-4935-4E7A-8FF9-ED5E4A0E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718-1246-446C-9566-40A01966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7BD-A292-4CF9-A4B8-335DF188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6BE-618F-41C1-95A8-C64F174A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EA2-88E0-4A5D-A002-F0CBCE2E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BD288-ADB4-4F18-8D59-6A58A7B34A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