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86249"/>
        <c:axId val="16228901"/>
      </c:barChart>
      <c:catAx>
        <c:axId val="29286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28901"/>
        <c:crosses val="autoZero"/>
        <c:auto val="1"/>
        <c:lblAlgn val="ctr"/>
        <c:lblOffset val="100"/>
        <c:noMultiLvlLbl val="0"/>
      </c:catAx>
      <c:valAx>
        <c:axId val="16228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86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886-8687-4F6A-8412-F1362149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932-0F9A-4858-8634-1F479F08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FEE-BA9E-4D1A-BF5B-5660F046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D7B-D550-4CF7-B453-08C1AD94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50E-085A-4E5D-AA72-96EBE3E0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4DE-CBBE-4599-B8D6-C95EA2CE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192-4199-423D-ADE2-F0215A65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2DE-E048-4E8E-9C55-375FF8B0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2D8-8BA5-413E-932D-F7AF9E9D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821-AC73-477E-841F-3D8292AB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2E0-0482-4F87-8E96-E57C38F1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4EC-4CA0-4D9F-BF13-AFCD80EA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1C402-D958-4F94-BDF0-1667CDBFE2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