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53058"/>
        <c:axId val="97378877"/>
      </c:barChart>
      <c:catAx>
        <c:axId val="60653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78877"/>
        <c:crosses val="autoZero"/>
        <c:auto val="1"/>
        <c:lblAlgn val="ctr"/>
        <c:lblOffset val="100"/>
        <c:noMultiLvlLbl val="0"/>
      </c:catAx>
      <c:valAx>
        <c:axId val="97378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53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254-0D5A-4A39-B384-DFE0EC73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8B9-0420-499B-9031-FF426B3E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A67-686E-482D-A2B6-D88F3A9A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435-A28C-4C3B-9290-7CD79F43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DA4-961D-447D-90A8-F3918675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1EB-0354-4A4B-818F-25200C23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1E5-9755-4419-B9F6-B4F6C3A7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9F8-3794-4836-B7BF-8937E58D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061-6739-421D-B89A-423043E4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5AE-2FBD-4560-A229-1ABDBF24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62C-3A81-4EC1-9E68-DA1A748F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9DD-2863-44F8-B743-B01CF12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78B71-7BF5-4FA9-AE33-CDDFB6C974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