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73141"/>
        <c:axId val="90152090"/>
      </c:barChart>
      <c:catAx>
        <c:axId val="87373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52090"/>
        <c:crosses val="autoZero"/>
        <c:auto val="1"/>
        <c:lblAlgn val="ctr"/>
        <c:lblOffset val="100"/>
        <c:noMultiLvlLbl val="0"/>
      </c:catAx>
      <c:valAx>
        <c:axId val="90152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73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AB5-E507-4B85-AA1B-870611F4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45D-58D4-4EC6-A3E4-C0335ABE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BB6-5933-4C33-AC61-56D66490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B0E-407B-49EA-96BB-71520CA5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9F0-B6CF-4FD7-BA30-DF79AE37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CED-3117-4C0C-B5CA-FED6F9F0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50F-2C73-4D7E-BDB9-0D8D8B8F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C1A-A0A5-416E-A2A7-1BBDBA6D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E44-D63E-4FEB-941A-0E352EFE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6CF-BC5D-4AC7-AF3D-26ECE394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9DB-9D3A-4696-95D4-4F7C066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DB6-141A-4755-92BA-60EDF26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DA312-22FE-4094-AF60-88F286EC4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