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27548"/>
        <c:axId val="23858535"/>
      </c:barChart>
      <c:catAx>
        <c:axId val="29427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58535"/>
        <c:crosses val="autoZero"/>
        <c:auto val="1"/>
        <c:lblAlgn val="ctr"/>
        <c:lblOffset val="100"/>
        <c:noMultiLvlLbl val="0"/>
      </c:catAx>
      <c:valAx>
        <c:axId val="23858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27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B23-D499-4E8D-9A93-8D4A284A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6CC-EDDD-4D46-BF95-E94B3CA4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FA4-59B0-4073-AF79-2700810E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391-201B-403C-9977-E36C05AF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E49-E485-4BB9-8987-0A594391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5EB-31D3-4408-A3BA-63725CD6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A5E-84FB-41F8-BD51-86EDB86C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7B0-49DE-4BDC-A6BB-1BF6D7F4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B19-01DF-4471-8E82-97482B4E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593-7C6E-4212-B3A9-72B688A9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2BB-B7AC-441B-B19B-61628933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9DF-A403-4DF5-9A65-581DEA54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2396-DDB4-485F-A643-B3192F2A6D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